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C54-0A6D-4631-AA91-D5CD6355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FB1-5E5C-4636-B176-52EEA7E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4BF-C9FB-4A7D-A41B-4649A419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975-8B12-4EF0-A6DE-13D7D4A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CD5-809C-46D0-B5B7-4A92E233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F54E-4A23-4161-8BCA-30D8A03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FFB2-4F70-4AE4-A655-3FB130C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58A-3640-4ECF-B4E6-4B796099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C05-AEF2-4697-A952-1377131C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895C-957F-4B04-9AEB-01305741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094F-23A4-4DB3-89E5-4A3E8EF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94D-3ED8-45E7-97E9-2FAC4A3C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C37-93CC-48A0-BA41-DE6E055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BCE3-1E9E-4080-A5BD-34A187B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D5E-97B2-488B-9B91-9E09D2DA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2D62-86E6-4A88-92A5-067DABC1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A745-126F-4942-BD3F-3C30C554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C542-175B-4EE4-8105-B2E5BD42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5CBF-39D3-432E-8064-6AD79FD0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E08F-02AB-47B1-9ECB-F21B01D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0975-E264-4448-8E0F-44680CA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732F-E2A4-4635-A65D-1199B76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57A-F822-4E23-A1C7-C7429E0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B4B2-461F-41E1-A5A2-5A43F0B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6429-D4A2-4EDE-AB04-4FC1C9DE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75C7-B04A-430B-A357-672DFA92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4BB0-79F7-46CE-AE11-778EE2B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944D-4EB1-40F4-BFFC-9AE1CADC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EC17-3F1A-4DFC-9ED2-DE314413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E610-FA73-4F6B-821F-091D9F78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6EAE-CD42-424E-8C16-71B81A85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DC8B1-5C0F-4380-B19A-C0FCA65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3E11-B1D4-438B-A8AC-4407626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48F-3912-4475-AB07-F7517B1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6046-CDC8-4183-905D-433A869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4E5C-EB00-42B9-ABBF-22ACDF0A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C395-5D73-43D5-BB2A-55AEE9D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9B0D-7B5C-436B-A9A4-13DDD7C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FC60-8BEF-42C5-8601-7A9F98C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F7BF-570E-4502-80EE-0BD6BE6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4D656-AB31-4B36-A9AB-826B18C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0ACC-FDBB-4A32-8E4C-F66E08D2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A8CB-7D60-4F4C-A3EF-137B3344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FC6D1-FC91-4878-8FEA-76B84152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A41-5BEF-43D8-855D-3E74794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CCD26-79E0-4E69-862B-B8D81D3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D663-365A-4B98-9840-E20D092D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2347-F5C5-4B63-95FB-C8BC4FA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7D2E-7A8C-4F24-9072-1AE353A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71E4F-FC1B-4697-A1F3-17D7AE4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06C2-9372-4A84-B0EC-0375661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4B7D-A9EC-4DE8-9BFE-20B8728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2BBDC-C87C-42A7-A30B-2130C06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3BBC-0467-40DA-9AFA-4E483F8D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D4256-917A-4B71-9FC1-FC061B9E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32C-1E16-4228-A830-7FB99B1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29B7-FBD1-47E3-BD37-C847B757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F0A7-AB99-4704-BC64-E49F66CC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09D8-5245-4919-92DA-7802A83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2F8C2-E7CE-4E8F-9982-8552DE4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838A-67E4-4134-90F4-CFCA046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8BD8-6664-4542-95A0-A5A9931C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4D399-CA11-4807-ADC9-26A26B78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DF3F-71D1-4C9B-AA04-CB5A127F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99EB-8265-4300-9245-533E9C8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C771-E543-4E95-B16A-CCBE9DE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818-8E24-4E2C-8D62-E8B25FE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32F8-CC8F-428A-BEA6-1FDB9F8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C054-39DC-4191-8475-9220A51D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CF4D-5BCF-4B28-A099-F027CFE2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896F-1FA0-4C32-A001-F049C641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6A94-2780-49B2-8D54-32CACF05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EEC4-E92E-4D6E-9DE2-8070127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BA9C-741B-408F-B5EB-F557D32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9B72-D7C0-4176-9DFC-1CED8E27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C915E-FA91-4DA2-96A1-FB8A320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F67F-698C-4B41-8E6B-88C2D8D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9E8-E369-448B-B64D-36448E6F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EFAD1-BFFA-4C23-9580-D90BBF5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7EDA-FA9F-40E2-80F9-4C5D072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0AB1-3AC8-4EA5-98F8-03E010E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9F936-6C77-4010-93B4-1EFE2ED3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600E-0E8F-4046-BB3D-A24DE70C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16530-21C3-49E6-B82C-387ABCE7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2EBF-97A2-4DC4-A267-3886E71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207C-46CA-42F7-B3F5-9C4D966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2918-0A01-43B4-AEC6-CA6A1365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63FC-6938-4024-94BE-62C52A20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F44-3579-45EB-82B6-CFF4D86F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A2398-D559-4007-A80B-FD5C70E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D43C-5F08-44E6-B52B-7DC61E3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56E4-E5FC-434D-A337-64CF003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E3DE2-51F8-4898-998B-F64ADB8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9FE3-42D4-43AA-A00E-12FE3DF7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295D-87E9-44AF-B6DB-F774058F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1CDF-B277-46A8-91AE-63B8778C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E1FF-4DBE-4BAC-B0D6-A2838C0197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003-A7E5-45B5-8274-63E6C7016A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22F-D5FF-4D10-8C90-F57C7BBAF1C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8ACF-695F-4539-805F-2C408A186E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D85D-F43B-476C-88AD-0E6B3A9353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17EB-EBE0-409A-9AD6-9328787AD7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6FD-03F2-49B0-AA59-324EC8CE1B6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1CC-E1AE-4EFB-9496-4D50932ABD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9232-75E2-472E-93DF-338B0BC3F3B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ADC-EC40-4D7C-B9DC-DC740A67D8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DDB-C53D-4CEA-8329-43800C390C0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39F-09BF-4308-878C-D6CFAB8E3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03E-8A0E-4CB8-85CD-EA58A0674AD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F26-A932-4EAC-AA7B-DDAD6B6714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46E3-AC97-4228-A304-3D117979A74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1FA0-FF37-40F7-A313-BED597EEED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7E3-DD1B-4A03-B788-1FB4B8A9ACA3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390600" y="255600"/>
            <a:ext cx="8759880" cy="21891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443376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r M R Kur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kar-Vaze College, Mulund East, Mumbai-40008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r_kurup@yahoo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Dr M R Kurup's Photo"/>
          <p:cNvPicPr/>
          <p:nvPr/>
        </p:nvPicPr>
        <p:blipFill>
          <a:blip r:embed="rId3"/>
          <a:srcRect l="60227" t="39541" r="18964" b="43568"/>
          <a:stretch/>
        </p:blipFill>
        <p:spPr>
          <a:xfrm>
            <a:off x="6477120" y="3048120"/>
            <a:ext cx="1904760" cy="144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C85-A1E0-4670-8244-FE768524192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6950160" cy="1311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37124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rientation/induction programs for fresh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 learning levels and design programs for advance/slow learne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nsitization of issues of gender, differently abled and inclu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ze academic  growth of slow learners/ differently-abled and provide tutorials to needy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C8F-04B1-49B9-A561-0A6CE2664F2F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7711920" cy="1189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560" y="1295280"/>
            <a:ext cx="830556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lanning/organizing T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academic calendar, teaching plan, evaluation blue print, IQAC contribution, et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udent-centric teaching-lear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echnology and facilities for teach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effective teaching (virtual /language labs, e-learning, multimedia et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xposure to advanced knowledge and skil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expert lectures, workshops et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n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cademic-personal and psycho/social support to students and to promote critical think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novative / creative teaching adopted by facul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uring the last four years; with impact on learn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of library resourc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augment TL proc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nitoring of quality of T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D87-7834-42C0-BC4F-33B1AF60117B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6950160" cy="1084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6840" y="1371600"/>
            <a:ext cx="80773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quate and well qualified/eligible teach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 diversity encouraged and positions filled within reasonable tim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4 years’ detail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culty development program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charge teac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search grants, study leave, support for publication et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culty who received aw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cognitions for excell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acher evaluation by students and external pe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ow used for improvement of TL pro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553-933F-4008-BF9B-E002CA8C521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-133200" y="115920"/>
            <a:ext cx="7302240" cy="914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218960"/>
            <a:ext cx="830556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jor evaluation refor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communication to all stakeholde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ademic calendar for conduct of exa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arency and security of evaluation system ensure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n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rmative/summative evaluation approach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opted to measure student achiev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nitoring/ communication the progress of stud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rough the duration of the cour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ails on significant process improv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uring the last four years in terms of performance management of students (weightage for behavioral aspects, independent learning, valid/accountable and objective internal assessment process, use of technology in exam management etc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udents performance as reflection faculty / institution performance and Institution and achievement of learning objectiv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valuation grievances redressal mechanis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C6B8-C474-452F-BFFC-3A824E78C74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311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218960"/>
            <a:ext cx="807696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raduate attributes of the institution clearly define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grams and activities help achieve stated graduate attribut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ll departments have clearly stated Learning Outco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programmes and made known to teachers/stud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w TLE strategies structured to achieve stated LO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es t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hance the social and economic relevance of cour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quality of jobs, innovation, entrepreneurship and research aptitude etc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Sans Unicode"/>
              </a:rPr>
              <a:t>New technologies developed to enhance student learning</a:t>
            </a:r>
            <a:r>
              <a:rPr b="1" lang="en-US" sz="2000" spc="-1" strike="noStrike">
                <a:solidFill>
                  <a:srgbClr val="3333cc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on LO collected to analyze shortfalls in LO and for future plann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87F-3B47-4F25-8532-C9C01891FA8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-109440" y="225360"/>
            <a:ext cx="8424720" cy="822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5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Key Aspects -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 PROMOTION OF RESEARCH – 2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cognized research uni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University/other organiz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mposition of Research committ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Measures taken to facilitat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mooth progress and implementation of research schemes/projec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aculty /students involvement in active resear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f workshops/ training-sensitization programmes  fo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apacity building and attracting eminent researc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ioritized research areas and the expertise availa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age of th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aculty who utilized Sabbatical Leave / seed money for resear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ctivities –with impa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of the initiatives taken in creating awareness/ advocating/transfer of research findings -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ab to land et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68560" indent="-47484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Times New Roman"/>
              <a:buAutoNum type="roman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DC76-ABA9-4E8B-89DC-54506F0B51AC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-139680" y="115920"/>
            <a:ext cx="7692840" cy="13111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088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ails of fund earmarked for resear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 provided to encourage faculty for research – last 4 yea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ails of financial provisions to support student research projec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ter-disciplinary research</a:t>
            </a:r>
            <a:r>
              <a:rPr b="1" lang="en-US" sz="2000" spc="-1" strike="noStrike">
                <a:solidFill>
                  <a:srgbClr val="ff811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echanism to ensure optimal use of various equipment and research faciliti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ails of special grants/finances from the industry or other beneficiary agenc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rovide details of ongoing and completed projects and grants received during the last four year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20B1-7EEC-489C-8937-9524DF758C2C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-212760" y="115920"/>
            <a:ext cx="8753400" cy="13111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808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facilities avail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research scholars in camp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ategies for planning, upgrading and creating infrastructural facil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special grants or finances received from the industry or other beneficiary agency for developing research facilities</a:t>
            </a:r>
            <a:r>
              <a:rPr b="1" lang="en-US" sz="2400" spc="-1" strike="noStrike">
                <a:solidFill>
                  <a:srgbClr val="ff811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last 4 yea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rary/ information resource cent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any other facilities available specifically for the research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collaborative research facilities develop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created by the research institutes in the colle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100E-1586-4637-951B-2C2C2356972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036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jor research achieveme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patents, product development,  et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sh or partner in publication of research journa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search /recognition/incentives awards receiv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y the facul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tails of public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y the faculty and student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80920" indent="-536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ation per faculty/students in peer reviewed journ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80920" indent="-536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ublications listed in International Database (i.e. Web of Science, Scopus, Humanities International Complete, Dare Database - International Social Sciences Directory, EBSCO host, etc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80920" indent="-536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graphs/Chapter in Books/Books Edited/ Books with ISBN (International Standard Book Number) ISSN (International Standard Serial Number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80920" indent="-536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itation Index, SNIP (Source-Normalized Impact per Paper, measures contextual citation impact), SJR (SCImago Journal Rank is a prestige metric that ‘all citations are not created equal’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80920" indent="-536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-index (measure both the productivity and impact of the published work of a scientist) - Impact fact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19200" indent="-619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944A-1A2C-486A-8DC9-9E22B180A68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7711920" cy="13111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 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stitute-industry interf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of institution to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mote consultanc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ultancy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vided and the revenue generated during the last four yea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of the institution i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aring the income generated through consulta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56A-CD07-4F2D-897B-BE17674FD6F6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804960" y="115920"/>
            <a:ext cx="6291000" cy="1311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3352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cess starts with LOI – on line (Registration fee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rst timers to submit IEQA online after LO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SR/RAR within 6 months of LOI / IEQ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 extension – once the time limit is over, fresh LOI / IEQA to be submit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R/RAR to be put up on the College Website to ensure transparency / accountability and for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keholders to comments on the authenticity of information furnish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correct or false information will attract penal a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649F-49B3-432D-B5D9-4118DC7E7EC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1700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295280"/>
            <a:ext cx="853416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stitution-neighborhood-community networ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olicit stakeholder percep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n performance/ quality of institu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lan and organize its extension and outreac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ogrammes–budgetary provision for last four years, list the major extension and outreach programmes and their impact on the overall development of student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articipation of students and faculty in extension activiti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ncluding participation in NSS, NCC, other National/ International agenc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s on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ocial surveys, research or extension wor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y college to ensure social justice and empower students from underprivileged and vulnerable sec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volvement of the community in its reach out activities and contribute to the community develop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 details on the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nstructive relationships forged with other institu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n various outreach and extension activiti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wards received by institution for extens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ctivities and/contributions to the social development during the last four yea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C79-B330-4A2A-A634-D3CDA542DA3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7711920" cy="13111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533520" y="137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nkages/MoU with research labs/industry/ commun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resear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tional/international conferences organiz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uring last 4 years and names of eminent resource persons/ participa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llaborations which enhanced curriculum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internship-on-the-job training, summer placement, faculty exchange, research, consultancy, extension, publication, student placement, twining, introduction of new cour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efforts i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nning, establishing and implementing linkages/collabo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330-366E-4985-A7F5-340A381F726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-96840" y="115920"/>
            <a:ext cx="8637480" cy="9572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33520" y="1371600"/>
            <a:ext cx="777240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Key Aspects 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 Physical facilities - 3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fac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urricular, co-curricular and extracurricular activities - optimal 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eds of differently abled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other fac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ostel, recreational, computer facilities/internet in hostel, health care &amp; medical emergencies, library facility in hostel, common rooms and audio visual equipments, residential facility for staff, drinking water supply and secur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mon fac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vailable on the campus – IQAC, Grievance redressal, women cell, counseling and placement, canteen, auditorium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D37F-C9FD-4333-9780-38CBECF3ABB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7559640" cy="566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560" y="838080"/>
            <a:ext cx="84582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&amp; initiative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visory Committe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– area, seating capacity, working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rchase and use of current titl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unt spent on procuring new books, journals and e-resources, last 4ye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vide details on ICT and other tools deployed</a:t>
            </a:r>
            <a:r>
              <a:rPr b="1" lang="en-US" sz="2400" spc="-1" strike="noStrike">
                <a:solidFill>
                  <a:srgbClr val="ff811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AC, (Online Public Access Catalogue), Electronic Resource Management package for e-journals, federated searching tools to search articles in multiple databases, library website, in-house/remote access to e-publications, library automation, number of computers/printers for public access, internet band width/speed, institutional repository, content management system for e-learning and participation in resource sharing networks/consortia like INFLIBN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654200" indent="-37152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B5D3-DFBF-49CB-B5F2-C39BCFA6F0C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-139680" y="115920"/>
            <a:ext cx="7692840" cy="13111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80880" y="1218960"/>
            <a:ext cx="83822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tails of – average number of walk-ins, books issued/retuned</a:t>
            </a:r>
            <a:r>
              <a:rPr b="0" lang="en-US" sz="2400" spc="-1" strike="noStrike">
                <a:solidFill>
                  <a:srgbClr val="ff8119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ooks-students ratio, average number of books added during last three years, average number of login to OPAC and e-resources, e-resources downloaded/ printed , number of training organiz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ive details of – manuscripts, reference, repr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r-library loan service, information display, download, printing, reading list/bibliography compilations, user orientation, assistance in searching databases, INFLIBNET/Inter University Centre (IUC) facil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ff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tudents/teach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pecial fac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visually/physically challenged pers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 of getting library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edb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how us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4280" indent="-5842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7510-F5ED-4F74-9E3F-BA6B22289C6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3111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609480" y="1219320"/>
            <a:ext cx="7848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computing fac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ardware/software (Number with configuration, computer-student ratio, standalone / LAN facility, nodes with internet, et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internet on ca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eyo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es f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pgrading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rastruct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dgetary prov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procurement, upgrade and maintenance of compu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of ICT 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cluding computer aided teaching/learning materials by staff and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cess to online teaching-learning resourc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ependent learning, ICT-enabled classrooms 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cess to National Knowledge 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nectivity directly or through affiliating univers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92F-4FF8-42E2-9BEC-DE2AF10A35CB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-122400" y="115920"/>
            <a:ext cx="8894880" cy="9079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609480" y="1599840"/>
            <a:ext cx="7925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sion and use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ance for mainten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upkeep of building, furniture, equipment, computers, vehicles 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chanism for mainten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upke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equency of calib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other precision measures for equipment/instru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jor steps for location, upkeep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tenance of sensitive equi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voltage fluctuations et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E83-A861-40E2-918B-17EA1FC3A93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000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560" y="838080"/>
            <a:ext cx="83818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Key Aspects -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tudent Mentoring And Support: - 5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spectus/ handbook &amp; information therei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stitutional scholarships/ freeship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&amp; Percentage of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udents receiving financial assistan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rom Governments - last 4 yea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upport services for SC/ST/OBC,EB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Physically challenged, overseas students, participants in competitions (national/ international), medical assistance to students, coaching classes for competitive exams/skill development, slow learners, exposure to other institutions/busin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s for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ntrepreneurial skills development, Promotion of extra-curricular and co-curricular activ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umerate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upport for competitive exa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d UGC-CSIR NET, SLET, CAT, GRE, TOFEL, GMAT Central/State Services/Defenc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unseling-career guidance and placement servic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udent grievance redressal cell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esolving sexual harassmen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sues,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nti-ragging committe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umerate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welfare schem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institu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egistered Alumni Associ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activities and major developmental contribution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5CE-A605-46D5-951E-ABAA07952D1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-189000" y="115920"/>
            <a:ext cx="7742160" cy="13111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years progres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G to PG, PG to M.Phil to Ph.D.- employment/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mpus-off camp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-wi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ss percent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last 4 years and in comparison with other colle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ities provided f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moting higher education and employmen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st 4 ye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umerat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ecial support provided for those who are at risk of failure and drop ou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90DF-BC55-419D-B7B1-6C8AA54C0AE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81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33520" y="1295280"/>
            <a:ext cx="81532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nge of sports, games, cultural and other extracurricular activ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ncluding programme calenda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4 years’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jor achiev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different levels (University to internation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dback collection for improving perform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quality of institutional provis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udents publication like catalogues, wall magazi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college magazine and other materi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udent council/similar bo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udent representatives on bod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3040" indent="-653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6DA-979E-40C4-AC82-D33E4F64AB5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27000" y="115920"/>
            <a:ext cx="5632560" cy="1311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066680" y="152388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R/RAR may comprise of the following sections:     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Summary inclusive of SWOC analysis of Instit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file of the Institution (35 data based Ques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aluative Report - Criteria-w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ve Report - Department-wi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1f28"/>
                </a:solidFill>
                <a:latin typeface="Times New Roman"/>
              </a:rPr>
              <a:t>Not to exceed 200 p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EA4-434E-4618-8C85-955AE38795B8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8974080" cy="13111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228240" y="114264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Key Aspects -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1 Institutional Vision &amp; Leadership –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Vision/Mi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relation to institutional needs and cult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volvement of leader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ensuring mission, action plans/ strategic plans, interaction with stakeholders, policy are based on need analysi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nitoring mechanis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ensure implement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academic leadershi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aculty by top manage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rooming of leader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various leve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legation of authority and operational autonom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depart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Participative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B09A-C4A1-4D17-A54F-8215EDA5956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-128520" y="115920"/>
            <a:ext cx="7699320" cy="1311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80520" y="1142640"/>
            <a:ext cx="8153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velopment</a:t>
            </a:r>
            <a:r>
              <a:rPr b="1" lang="en-US" sz="2400" spc="-1" strike="noStrike">
                <a:solidFill>
                  <a:srgbClr val="ff811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Quality Policy - Perspective Pla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 of quality improvement strategies in case of teaching/learning/ research &amp; development, community engagement, human resources and industry inter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chanism to collect feedback for top management and stakeholder to review activiti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management’s resolutions of last year and its implementation statu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orts to achieve autonomous stat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ness of Grievances/complaints redressal mechanism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Court cases during last 4 ye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474A-8523-4463-98CB-F02C7CCA1AA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7785000" cy="1311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685440" y="1295280"/>
            <a:ext cx="7924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orts made for recruitment and promotion of faculty/staff as per No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al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aculty/staff empowerment /training strateg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performance apprais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utcome of review of performance apprais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lfare sche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vailable to faculty/staff – 4 year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asures taken to attract and retain eminent facult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A3F-6166-4281-94B9-D5A38E099C4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7742520" cy="1311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380520" y="1218960"/>
            <a:ext cx="80010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equate budgetary provisions for academic and administrative activ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chanism to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nitor effective and efficient use of financial resour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intain Reserve and Corpus Fu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rnal and external audit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jor sources of receipts/fu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how is deficit managed (3 years I/E Statement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efforts in mobiliz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additional funding and utiliz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sa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93E-1872-4138-A334-F205272F08A9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-109440" y="115920"/>
            <a:ext cx="7662600" cy="822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380880" y="914400"/>
            <a:ext cx="838224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QA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etails of IQAC, external members, alumni contribu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grated framework for quality assur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academic and administrati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 for staff f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mplementation of QA proced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ducted academic audit of depart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utco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Q mechanism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igned with relevant external QA agencies/author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Mechanism to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inuously review teaching-learning pro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munication of QA outcomes to stakehold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tails of any five SWOC of the instit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766C-31A0-46A4-AA9B-54607F4908F9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-139680" y="115920"/>
            <a:ext cx="7692840" cy="13111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Key Aspects 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1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vironment Consciousness - 3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reen Au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its campus and facil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itiatives taken by the colle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e campus eco-friendl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nergy conserv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se of renewable energ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ater harvest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* Efforts for Carbon neutral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* Plantation/Garden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zardous and e-waste manag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25E-26F4-452B-991F-D442CCF68B9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-262080" y="115920"/>
            <a:ext cx="7815240" cy="13111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-360" y="1295280"/>
            <a:ext cx="7467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2.1 -The institution is geared to promote an ambie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reativity innovation and improving qua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 details of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innovations introduced dur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he last four ye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have creat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functioning of the colle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T to identify characteristics of the innovat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7531-04C3-4D2D-AF94-18C5F6D37493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-139680" y="115920"/>
            <a:ext cx="7692840" cy="1311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380520" y="1371600"/>
            <a:ext cx="80010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3.1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Elaborate on any two best practices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leading to improvement and having visible impact on quality (as per the FORMAT)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ractices should  have contributed to the achievement of institutional Objectiv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rma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tle Of The Pract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oal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– 10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Context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15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Practice- Describe The Practice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40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vidence Of Succes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20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roblems Faced &amp; Resources Require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15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otes (Optional) - Any other information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- 150 wor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n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/3</a:t>
            </a:r>
            <a:r>
              <a:rPr b="1" lang="en-US" sz="2400" spc="-1" strike="noStrike" baseline="30000">
                <a:solidFill>
                  <a:srgbClr val="3333cc"/>
                </a:solidFill>
                <a:latin typeface="Lucida Sans Unicode"/>
              </a:rPr>
              <a:t>rd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 Cycle: Response to recommend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2E9-16CE-442C-AE0C-AD719269B28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-109440" y="115920"/>
            <a:ext cx="7967520" cy="1170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380520" y="11430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 Question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Program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studen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facult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funded research / projec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research facilities/recogni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publi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consultanc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ards/recogni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nent visito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nar / conferences organized and source of fund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 progress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al infrastructure/faciliti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of teaching method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ion in extension activiti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144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f the Key Aspect is validated o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ve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TISFACT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ACT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p to 1.50 =   Unsatisfactory -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1 – 2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acto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1  -3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1 – 4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 Go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907920" y="182520"/>
            <a:ext cx="7785360" cy="89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9EAC-671F-430D-B33A-849569E0C257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262080" y="115920"/>
            <a:ext cx="7736040" cy="1311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304920" y="1599840"/>
            <a:ext cx="8534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Criteria,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32 Key Asp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202 Assessment Indicators -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icular Aspects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00 (AF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 (U/Au)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ing-learning &amp; Evaluation   </a:t>
            </a:r>
            <a:r>
              <a:rPr b="1" lang="en-US" sz="2400" spc="-1" strike="noStrike">
                <a:solidFill>
                  <a:srgbClr val="464646"/>
                </a:solidFill>
                <a:latin typeface="Times New Roman"/>
              </a:rPr>
              <a:t>35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AF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00 (U) 300 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arch, Consultancy &amp; Extensio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  150 (AF/Au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50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structure &amp; Learning Resources        100 (al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 Support &amp; Progression                  100 (all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ance, Leadership &amp; Management  </a:t>
            </a:r>
            <a:r>
              <a:rPr b="1" lang="en-US" sz="2400" spc="-1" strike="noStrike">
                <a:solidFill>
                  <a:srgbClr val="464646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ll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68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ovations &amp; Best Practices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all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PEN TO YO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 R KUR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r_kurup@yahoo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4CF-C44B-4B3A-B209-7F10A4E89EEA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938160" y="225360"/>
            <a:ext cx="7755120" cy="13352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040" y="106668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Key Aspects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.1 Curriculum Design &amp; Development (univers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1 Curriculum Planning And Implementation – 2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ssment Indicato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and Objectiv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iculum Implementation Pla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/ College support curriculum transa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and contributions of the College in curriculum develo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jectives of curriculum achiev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ed on the response, the PT will measure the performance of Key Aspect on a 0-4 five point scale, to workout the Weighted Scor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D062-92EF-417C-823C-02C206315C6E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-146160" y="0"/>
            <a:ext cx="7010640" cy="938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0" y="9140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. of program options leading to degree/diploma/ certificates – UG/PG 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Programs (Twinning / dual degree / Self Financing  to meet emerging nee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s of academic flexi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ge of Core / Elective opti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ice Based Credit System and range of option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ses offered in Modular for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-institutional Credit transfer fac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ral/vertical mobility  of cour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ichment cour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677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ester system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sion for combining Conventional &amp;Distance Mode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3FD-E2C2-4402-96A9-FA7CDEF1A4C1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-158760" y="115920"/>
            <a:ext cx="7023240" cy="110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33520" y="1142640"/>
            <a:ext cx="73152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5240" indent="-79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urriculum is supplemented / modified / enrich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value added, to meet market need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nder, climate change, environment education, human rights, ICT integr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curricul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dback for enrichment and quality monito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795240" indent="-7952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87F-6D90-4A0E-8F91-C64B5AA027D6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262080" y="115920"/>
            <a:ext cx="7321680" cy="13111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80880" y="1523520"/>
            <a:ext cx="74678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Formal mechanis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to obtain feedb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students and stakeholders on Curricul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municated to the University and   made use intern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curriculum enrich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w programs/cour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the College during the last 4 years, with justifi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66720" indent="-666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(2</a:t>
            </a:r>
            <a:r>
              <a:rPr b="1" lang="en-US" sz="2000" spc="-1" strike="noStrike" baseline="30000">
                <a:solidFill>
                  <a:srgbClr val="cc3300"/>
                </a:solidFill>
                <a:latin typeface="Lucida Sans Unicode"/>
              </a:rPr>
              <a:t>nd</a:t>
            </a: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/3</a:t>
            </a:r>
            <a:r>
              <a:rPr b="1" lang="en-US" sz="2000" spc="-1" strike="noStrike" baseline="30000">
                <a:solidFill>
                  <a:srgbClr val="cc3300"/>
                </a:solidFill>
                <a:latin typeface="Lucida Sans Unicode"/>
              </a:rPr>
              <a:t>rd</a:t>
            </a:r>
            <a:r>
              <a:rPr b="1" lang="en-US" sz="2000" spc="-1" strike="noStrike">
                <a:solidFill>
                  <a:srgbClr val="cc3300"/>
                </a:solidFill>
                <a:latin typeface="Lucida Sans Unicode"/>
              </a:rPr>
              <a:t> Cycle: Follow up on last PT Recommendatio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 M R Kur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B2B-1A1B-493B-87C0-4BC9562FD546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-85680" y="115920"/>
            <a:ext cx="7493040" cy="1311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142640"/>
            <a:ext cx="81532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Key Aspects -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 Student Enrolment &amp; Profile - 3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ity/ transparency &amp; criteri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in admi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ces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lect on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dmission to SC/ST, OBC, EBC, women, differently- abled – statutory reservation 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s of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inimum/maximum % of marks at entry lev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each pr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in comparison with other college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ends in admission: demand-supply ratio for all programm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2:57:14Z</dcterms:created>
  <dc:creator>M R Kurup</dc:creator>
  <dc:description/>
  <dc:language>en-US</dc:language>
  <cp:lastModifiedBy>M R Kurup</cp:lastModifiedBy>
  <dcterms:modified xsi:type="dcterms:W3CDTF">2015-02-24T05:04:21Z</dcterms:modified>
  <cp:revision>430</cp:revision>
  <dc:subject/>
  <dc:title>1. Curricular Aspects</dc:title>
</cp:coreProperties>
</file>